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E59-198C-4778-AF3A-E938B5FED0C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66B0-3441-4022-B05D-E6B092CFAAF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3EFC-A655-4F9E-8AF6-9972FB50BA5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0C6A-286E-401C-AE34-A98A88E77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85723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749040"/>
            <a:ext cx="85723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EDC9-8F53-452B-83AB-A950657B4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B4FF-44BF-4C10-8D21-55757B944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8880" y="131076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7600" y="131076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74904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8880" y="374904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7600" y="374904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6977-33A7-42F2-A775-BF5C04B43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9000" y="-7920"/>
            <a:ext cx="858348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9052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C8D8-B4F6-4602-830F-6F3155564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24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0520" y="3749040"/>
            <a:ext cx="85723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85723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0520" y="3749040"/>
            <a:ext cx="85723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052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324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8880" y="131076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87600" y="131076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90520" y="374904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8880" y="374904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87600" y="3749040"/>
            <a:ext cx="27601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5605-B10A-41E1-BD01-D47D269A3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4ABE-5BE3-421B-95A3-8FFC0B7AC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957F-35C8-48FD-951D-E19BD2AEC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9000" y="-7920"/>
            <a:ext cx="858348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C3AB-E836-4245-A9DE-5B4D8CBE1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9A02-E16E-4D7C-8B0B-5472CAFE2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74904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DF10-F1A8-455A-B97A-D285EEE2D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310760"/>
            <a:ext cx="418320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749040"/>
            <a:ext cx="8572320" cy="22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E513-EEE0-4EEA-BE77-AA4707B3C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164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1" marL="960480" indent="-5032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2" marL="1295280" indent="-220680">
              <a:spcBef>
                <a:spcPts val="601"/>
              </a:spcBef>
              <a:buClr>
                <a:srgbClr val="29292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3" marL="1703520" indent="-228600">
              <a:spcBef>
                <a:spcPts val="601"/>
              </a:spcBef>
              <a:buClr>
                <a:srgbClr val="77777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4" marL="2111400" indent="-228600">
              <a:spcBef>
                <a:spcPts val="601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5" marL="2111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6" marL="2111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833480" y="6541560"/>
            <a:ext cx="4864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77777"/>
                </a:solidFill>
                <a:latin typeface="Times New Roman"/>
              </a:rPr>
              <a:t>Pied de page (Affichage -&gt; En-tête et pied de p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86280" y="6538680"/>
            <a:ext cx="1011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2B9-CBBC-4C93-96A4-F6210F3F97F5}" type="slidenum">
              <a:rPr b="0" lang="fr-FR" sz="18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164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1" marL="960480" indent="-503280"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2" marL="1295280" indent="-220680">
              <a:spcBef>
                <a:spcPts val="601"/>
              </a:spcBef>
              <a:buClr>
                <a:srgbClr val="29292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3" marL="1703520" indent="-228600">
              <a:spcBef>
                <a:spcPts val="601"/>
              </a:spcBef>
              <a:buClr>
                <a:srgbClr val="77777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4" marL="2111400" indent="-228600">
              <a:spcBef>
                <a:spcPts val="601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5" marL="2111400" indent="-228600">
              <a:spcBef>
                <a:spcPts val="601"/>
              </a:spcBef>
              <a:buClr>
                <a:srgbClr val="2b63a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6" marL="2111400" indent="-228600">
              <a:spcBef>
                <a:spcPts val="601"/>
              </a:spcBef>
              <a:buClr>
                <a:srgbClr val="2b63a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080" y="24732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64e"/>
              </a:solidFill>
              <a:latin typeface="Verdana"/>
              <a:ea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1000" y="1901520"/>
            <a:ext cx="486396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pied de page 4"/>
          <p:cNvSpPr/>
          <p:nvPr/>
        </p:nvSpPr>
        <p:spPr>
          <a:xfrm>
            <a:off x="1833480" y="6541920"/>
            <a:ext cx="486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Arial"/>
              </a:rPr>
              <a:t>Pied de page (Affichage -&gt; En-tête et pied de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5"/>
          <p:cNvSpPr/>
          <p:nvPr/>
        </p:nvSpPr>
        <p:spPr>
          <a:xfrm>
            <a:off x="6686640" y="6539040"/>
            <a:ext cx="1011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3DD9-05D6-4DE3-BCBD-E08822887765}" type="slidenum">
              <a:rPr b="0" lang="fr-FR" sz="18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Titre de la diap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164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64e"/>
                </a:solidFill>
                <a:latin typeface="Verdana"/>
              </a:rPr>
              <a:t>Niveau 1</a:t>
            </a: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  <a:p>
            <a:pPr lvl="1" marL="960480" indent="-503280">
              <a:spcBef>
                <a:spcPts val="499"/>
              </a:spcBef>
              <a:buClr>
                <a:srgbClr val="333333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Niveau 2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1295280" indent="-220680">
              <a:spcBef>
                <a:spcPts val="400"/>
              </a:spcBef>
              <a:buClr>
                <a:srgbClr val="29292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Niveau 3</a:t>
            </a:r>
            <a:endParaRPr b="0" lang="en-US" sz="1600" spc="-1" strike="noStrike">
              <a:solidFill>
                <a:srgbClr val="292929"/>
              </a:solidFill>
              <a:latin typeface="Verdana"/>
            </a:endParaRPr>
          </a:p>
          <a:p>
            <a:pPr lvl="3" marL="1703520" indent="-228600">
              <a:spcBef>
                <a:spcPts val="300"/>
              </a:spcBef>
              <a:buClr>
                <a:srgbClr val="777777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Verdana"/>
              </a:rPr>
              <a:t>Niveau 4</a:t>
            </a:r>
            <a:endParaRPr b="0" lang="en-US" sz="1200" spc="-1" strike="noStrike">
              <a:solidFill>
                <a:srgbClr val="777777"/>
              </a:solidFill>
              <a:latin typeface="Verdana"/>
            </a:endParaRPr>
          </a:p>
          <a:p>
            <a:pPr lvl="4" marL="2111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Verdana"/>
              </a:rPr>
              <a:t>Niveau 5</a:t>
            </a:r>
            <a:endParaRPr b="0" lang="en-US" sz="12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ce réservé du pied de page 4"/>
          <p:cNvSpPr/>
          <p:nvPr/>
        </p:nvSpPr>
        <p:spPr>
          <a:xfrm>
            <a:off x="1833480" y="6541920"/>
            <a:ext cx="486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77777"/>
                </a:solidFill>
                <a:latin typeface="Arial"/>
              </a:rPr>
              <a:t>Pied de page (Affichage -&gt; En-tête et pied de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5"/>
          <p:cNvSpPr/>
          <p:nvPr/>
        </p:nvSpPr>
        <p:spPr>
          <a:xfrm>
            <a:off x="6686640" y="6539040"/>
            <a:ext cx="1011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A62-8115-4EC9-BA40-E883AF1C9DBA}" type="slidenum">
              <a:rPr b="0" lang="fr-FR" sz="18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9000" y="-7920"/>
            <a:ext cx="8583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310760"/>
            <a:ext cx="85723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64e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9:17:17Z</dcterms:created>
  <dc:creator/>
  <dc:description/>
  <dc:language>en-US</dc:language>
  <cp:lastModifiedBy>Vincent Roy</cp:lastModifiedBy>
  <dcterms:modified xsi:type="dcterms:W3CDTF">2010-07-20T16:14:00Z</dcterms:modified>
  <cp:revision>42</cp:revision>
  <dc:subject/>
  <dc:title>Document AFM42</dc:title>
</cp:coreProperties>
</file>